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B6D60-2179-4EEB-B316-A48F5073E7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5E5A4-8677-4C09-84D1-139734F6B4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9CDC-1386-4092-977B-6E5FA7C5E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66C8-6664-420B-BCB7-F9B30FBF9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EB6F-B24E-47D1-87F3-7FEA23791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2CDF-A2A7-4C5E-BADF-3DAFEB4FB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0D2D-A630-4DD9-AEDA-8FADE1266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838C-4D2F-4FF0-B8E9-FC65A707A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517C-9CC5-4CCA-89C3-65C1557AE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1612-E5BA-448E-8FB4-81C14102A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8995-B7B5-4601-8315-C593A4520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A0DD-AACD-4022-B092-95AA69DC3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1743-AB3A-4F85-805F-CC33FEAFC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0518-AD6A-4AD4-BB19-816D1513F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4C834-0FEF-4A66-9FEF-9CFFEADB71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pter 0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09_03"/>
          <p:cNvPicPr/>
          <p:nvPr/>
        </p:nvPicPr>
        <p:blipFill>
          <a:blip r:embed="rId1"/>
          <a:stretch/>
        </p:blipFill>
        <p:spPr>
          <a:xfrm>
            <a:off x="1371600" y="457200"/>
            <a:ext cx="601992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9.04 Malnutrition is highest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Sub-Saharan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East A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South A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South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Central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9.04 Malnutrition is highest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1. Sub-Saharan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East A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South A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South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Central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09_09"/>
          <p:cNvPicPr/>
          <p:nvPr/>
        </p:nvPicPr>
        <p:blipFill>
          <a:blip r:embed="rId1"/>
          <a:stretch/>
        </p:blipFill>
        <p:spPr>
          <a:xfrm>
            <a:off x="0" y="523800"/>
            <a:ext cx="9144000" cy="481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9.05 Sub-Saharan Africa has all of the following problems, excep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Corrupt and/or inefficient govern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Low levels of female empower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High levels of pover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A lack of mineral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A relatively uneducated popul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9.05 Sub-Saharan Africa has all of the following problems, excep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Corrupt and/or inefficient govern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Low levels of female empower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High levels of pover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4. A lack of mineral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A relatively uneducated popul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9.06 The Gender-Related Development Index is lowest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Sub-Saharan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Eastern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North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South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East A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9.06 The Gender-Related Development Index is lowest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1. Sub-Saharan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Eastern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North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South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East A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09_13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9.07 The self-sufficiency approach to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Has had the support of the United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Relies on free trade with more develope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Has been the preferred approach over the las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dec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Frequently suffers from inefficienc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Relies on market forces with little guidanc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govern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9.01 Of the following areas, the Human Development Index is highest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South A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East A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South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North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9.07 The self-sufficiency approach to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Has had the support of the United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Relies on free trade with more develope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Has been the preferred approach over the las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dec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4. Frequently suffers from inefficienc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Relies on market forces with little guidanc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govern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9.08 According to Rostow’s development model, a country with a lot of heavy industry that uses modern technology is in St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O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Tw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Thre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Fou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Fiv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9.08 According to Rostow’s development model, a country with a lot of heavy industry that uses modern technology is in St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O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Tw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Thre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4. Fou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Fiv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9.09 All of the following statements about the World Trade Organization are true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Liberals charge it is anti-democra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Conservatives charge it compromise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vereign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It seeks to lower tarif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It encompasses around 70% of world tr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It promotes a capitalist economic 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9.09 All of the following statements about the World Trade Organization are true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Liberals charge it is anti-democra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Conservatives charge it compromise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vereign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It seeks to lower tarif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4. It encompasses around 70% of world tr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It promotes a capitalist economic 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9.10 Foreign debt as a percentage of income is highest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South A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East A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Middle E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Central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Eastern Europ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9.10 Foreign debt as a percentage of income is highest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South A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East A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Middle E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4. Central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Eastern Europ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09_24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9.01 Of the following areas, the Human Development Index is highest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South A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East A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South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North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5.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09_01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9.02 GDP per capita is highest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South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East A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Middle E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Eastern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North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9.02 GDP per capita is highest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South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East A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Middle E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Eastern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5. North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09_02"/>
          <p:cNvPicPr/>
          <p:nvPr/>
        </p:nvPicPr>
        <p:blipFill>
          <a:blip r:embed="rId1"/>
          <a:stretch/>
        </p:blipFill>
        <p:spPr>
          <a:xfrm>
            <a:off x="0" y="523800"/>
            <a:ext cx="9144000" cy="481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9.03 Regarding sector employment in MDCs and LDCs over the last 100 years, it is true tha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The primary sector has increased in MD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The tertiary sector has decreased in MD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The primary sector has trended slightly lowe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LD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The tertiary sector has increased in LD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The secondary sector has decreased in LD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9.03 Regarding sector employment in MDCs and LDCs over the last 100 years, it is true tha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The primary sector has increased in MD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The tertiary sector has decreased in MD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3. The primary sector has trended slightly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lower in LD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The tertiary sector has increased in LD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The secondary sector has decreased in LD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3T21:30:07Z</dcterms:created>
  <dc:creator>Michael Pretes</dc:creator>
  <dc:description/>
  <dc:language>en-US</dc:language>
  <cp:lastModifiedBy>Unity Rain</cp:lastModifiedBy>
  <dcterms:modified xsi:type="dcterms:W3CDTF">2011-04-24T23:08:39Z</dcterms:modified>
  <cp:revision>84</cp:revision>
  <dc:subject/>
  <dc:title>CRS Chapter 4</dc:title>
</cp:coreProperties>
</file>